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361-7C6F-4B15-93D1-537D9966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F6B-39CB-40B3-8CE2-611EA9D9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E0B-6C3F-4570-B302-FD1E6138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813-50F3-481B-B8E4-737E7F1F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6A7-3A23-496B-A4BC-6BE61B0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DBF-D288-40E0-A433-46A6FFB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558-9DBE-4B85-8101-4501CC37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12B-13E7-48D0-B2E7-61AED0E4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157-7BFE-42FA-987A-F1B96442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0A5-07B6-46A8-AED4-627DDE4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E3C-9E45-4824-B0BD-F2E981C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57D-0858-4018-83C0-D3DFF1F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97C8-79FD-4207-A327-791965AFC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connecticu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bensguide.gpo.gov/3-5/state/connecticut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postcardsfrom.com/stamp/stamp-ct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postcardsfrom.com/stamp/stamp-ct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50080" y="566748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7242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3657600" cy="19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66135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724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0"/>
            <a:ext cx="25146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Connecticut Song, 7-Oct-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066680"/>
            <a:ext cx="80769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necticut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Connecti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Hart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3,405,5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1/9/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he who transplatened still sus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Constitutio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90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29718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91040" cy="366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490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657600" cy="271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5880" y="5105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from 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Mountain Lau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American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Yankee D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the name: From the native American word “quinnehtukqut”, meaning “besides the long tidal riv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29718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Connecticut: Map and State Flag"/>
          <p:cNvPicPr/>
          <p:nvPr/>
        </p:nvPicPr>
        <p:blipFill>
          <a:blip r:embed="rId1"/>
          <a:srcRect l="5557" t="45250" r="0" b="0"/>
          <a:stretch/>
        </p:blipFill>
        <p:spPr>
          <a:xfrm>
            <a:off x="4572000" y="3429000"/>
            <a:ext cx="4267080" cy="284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4429080"/>
            <a:ext cx="32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Connecticut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connectic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Copyright © 1997 WriteLine. All Rights Reserved. Connecticut flag"/>
          <p:cNvPicPr/>
          <p:nvPr/>
        </p:nvPicPr>
        <p:blipFill>
          <a:blip r:embed="rId3"/>
          <a:stretch/>
        </p:blipFill>
        <p:spPr>
          <a:xfrm>
            <a:off x="2209680" y="228600"/>
            <a:ext cx="4496040" cy="301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2920" y="5335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Copyright © 1997 WriteLine. All Rights Reserved. Mountain Laurel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686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219320"/>
            <a:ext cx="2438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Connecticu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necticut state Stamp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91120"/>
            <a:ext cx="2438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 of Connectic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28800" y="53341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100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of Connecticut is gorgeous in so many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12193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Connecticu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necticut postcard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07:10Z</dcterms:created>
  <dc:creator>install</dc:creator>
  <dc:description/>
  <dc:language>en-US</dc:language>
  <cp:lastModifiedBy>install</cp:lastModifiedBy>
  <dcterms:modified xsi:type="dcterms:W3CDTF">2010-10-14T13:19:54Z</dcterms:modified>
  <cp:revision>14</cp:revision>
  <dc:subject/>
  <dc:title>Slide 1</dc:title>
</cp:coreProperties>
</file>